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17C8-1589-4F45-96F4-5B83D8F3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E08A-E5B1-4E91-96E2-E3450272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B660-3C00-4152-BC7D-B327F033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2F1-2806-4D10-8681-E00030067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EAE8C-7A56-48F0-B9B0-DD6D6D91F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35AB4-99BD-4DF2-A13C-C4B66D812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B5B97-3FD4-40A2-8534-DF2CB45B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305E9-5B04-4860-A7F8-B5CA55EE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4B3F55-E4AF-4564-ADAC-AEB4C048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FA5FA-371D-488A-A242-0A9B2325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05F9F9-1D54-481B-BBB4-3C4DD86F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FDAB-C121-484F-9CB8-B7456A3D3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110740-6F17-4419-8C80-3C2CE783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8B192-DD58-46C6-B984-08C9DF91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5D6F33-5C1A-4400-A507-6F34009C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2C7B4-FCAF-43E0-B610-B3989D185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6D2CE-70AB-44CC-9285-8F13421E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75B-AE98-42F8-850E-F1CB35BF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ED2E-96BC-40F2-898E-DFA7BFAE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0DE6-879C-42B5-AED8-3C3E84F9C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2883-56AC-4B9B-8165-A9136A30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F35-E080-4DD6-8824-5F2D539E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CDC-3B98-4571-9077-9C525401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A3C-822F-40FF-8E58-1670B913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E2BC-DB2E-4907-9D2A-6F28F1A59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BF01-88E8-4DCA-873E-35E0A0B209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Mapy.cz%20%20vyhled&#225;v&#225;n&#237;%20v&#253;razu%20route(fast,toll)%20M&#237;steck&#225;%203220,Ostrava)Ciheln&#237;%20107,Ostrava.htm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ezentace firm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87280" y="1844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ROSEN-Georgi Najdenov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Cihelní 1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Moravská Ostrav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ffffff"/>
                </a:solidFill>
                <a:latin typeface="Tahoma"/>
              </a:rPr>
              <a:t>Naše firma se zabývá opravou a lakováním všech typů karoserií.</a:t>
            </a:r>
            <a:br>
              <a:rPr sz="2000"/>
            </a:br>
            <a:r>
              <a:rPr b="1" i="1" lang="cs-CZ" sz="2000" spc="-1" strike="noStrike">
                <a:solidFill>
                  <a:srgbClr val="ffffff"/>
                </a:solidFill>
                <a:latin typeface="Tahoma"/>
              </a:rPr>
              <a:t>Dlouhodobé zkušenosti v oblasti přípravy a lakování au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izitka firm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ádíme veškeré lakýrnické prác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kování osobních automobilů, dodáve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kování auto veteránů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ální vícevrstvé lak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robné opravy a renovace starších laků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ícebarevné lakování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žnost vytvoření si vlastního odstínu zákazníkem nebo naším technikem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íchání barev dle vlastních receptur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váření a opravy plastových dílů včetně lakování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oderní lakovací a vysoušecí kabina s filtry s aktivním uhlím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álým smluvním zákazníkům poskytujeme přednostní servis a slevy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-24696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rátké dodací lhůty, kvalitní laky a záruka na provedené práce jsou samozřejmostí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46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  </a:t>
            </a: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kovací kabi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kovací kabina s filt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šicí program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yškolený personá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050920" y="3441600"/>
            <a:ext cx="4681800" cy="30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arosářské prá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ále nabízíme karosářské prá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ovnání na stolici značky-AUTOROBOT 500 XLS I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fesionální přístu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708360" y="321300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ání pro 20 au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 našem areálu může být postaveno až 20 aut z toho 15 v přípravně lakovn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dtahová služb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še firma se zabývá taktéž převozem au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kytujeme odtah až 3 aut do celkové hmotnosti 11600 kg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máme vozík na 2 aut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40000" y="3429000"/>
            <a:ext cx="4495680" cy="305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de nás najde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še provozovna se nachází na spojnici ulic Místecká,kde se nachází váš autobazar AAA Auto Ostrava a ulice Cihelní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élka trasy je 3,5 km což představuje 3 minuty jízd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Mapk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Kontak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Cihelní 107,Moravská Ostrava,naproti Auto sklo 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Telefonní čísla : + 420 607 555 54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                          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+ 420 602 323 75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Email: opravy.karoserii@seznam.c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08:45:13Z</dcterms:created>
  <dc:creator>uživatel</dc:creator>
  <dc:description/>
  <dc:language>en-US</dc:language>
  <cp:lastModifiedBy>uživatel</cp:lastModifiedBy>
  <dcterms:modified xsi:type="dcterms:W3CDTF">2007-03-07T11:14:48Z</dcterms:modified>
  <cp:revision>8</cp:revision>
  <dc:subject/>
  <dc:title>Prezentace firmy</dc:title>
</cp:coreProperties>
</file>