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F11-1C31-4E84-8F1B-3DAE4F1E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5E7-C09E-4C54-AAA4-431AE000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B18-5087-48AE-AC2F-18E9BB6F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F41-3140-4B57-9CDD-EABF5493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0F5FB-00F3-4ED7-9453-53053C8C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1BD3-EF47-4937-A4C5-97926CB2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C3BE-DD01-49DE-99BB-CBA4AC4E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9245-364E-4509-936B-FFCFAC7B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21B8D-F0DF-49BE-8514-A472CC0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D118E-856E-4714-92C0-F1A7C17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4FBFB-77C1-4202-845C-709971B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512-0B9D-4E65-966C-F15DA9C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D4A5E-545F-4122-8670-813655F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6314-B3A4-49E2-93CC-C23E810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E881C-16AB-4A58-BB7F-096AEB6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C0100-E265-4816-AE60-D35E4440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E5D9-A935-437C-AAE2-EE5F6C6F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97D-A638-4CA9-A2C6-4A2E9B08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122-F2FF-4C22-8843-0983614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5AB-8EA1-4E11-8307-5E70A9A4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0D2-61A0-456D-8838-EAADAF9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28B-B90D-4144-9B06-B3CBA52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30A-4501-4993-B32E-6CC7CBD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B9C-DD4A-4B6E-89FB-836F702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AAE-F71D-4526-8CD5-D30F1BF91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FD53-6DF2-408A-BD1E-B3ECB3072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py.cz%20%20vyhled&#225;v&#225;n&#237;%20v&#253;razu%20route(fast,toll)%20M&#237;steck&#225;%203220,Ostrava)Ciheln&#237;%20107,Ostrava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zentace firm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EN-Georgi Najden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ihelní 1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ravská Ostr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ahoma"/>
              </a:rPr>
              <a:t>Naše firma se zabývá opravou a lakováním všech typů karoserií.</a:t>
            </a:r>
            <a:br>
              <a:rPr sz="2000"/>
            </a:br>
            <a:r>
              <a:rPr b="1" i="1" lang="cs-CZ" sz="2000" spc="-1" strike="noStrike">
                <a:solidFill>
                  <a:srgbClr val="ffffff"/>
                </a:solidFill>
                <a:latin typeface="Tahoma"/>
              </a:rPr>
              <a:t>Dlouhodobé zkušenosti v oblasti přípravy a lakování au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zitka firm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ádíme veškeré lakýrnické prác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ování osobních automobilů, dodáve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ování auto veterán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ální vícevrstvé lak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obné opravy a renovace starších lak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ícebarevné lakování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žnost vytvoření si vlastního odstínu zákazníkem nebo naším technik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íchání barev dle vlastních receptu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váření a opravy plastových dílů včetně lakování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rní lakovací a vysoušecí kabina s filtry s aktivním uhlí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álým smluvním zákazníkům poskytujeme přednostní servis a slev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átké dodací lhůty, kvalitní laky a záruka na provedené práce jsou samozřejmostí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kovací kab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ovací kabina s fil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šicí progra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školený personá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0920" y="3441600"/>
            <a:ext cx="468180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arosářské prá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ále nabízíme karosářské prá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vnání na stolici značky-AUTOROBOT 500 XLS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ionální příst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ání pro 20 a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našem areálu může být postaveno až 20 aut z toho 15 v přípravně lakov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tahová služ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e firma se zabývá taktéž převozem au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kytujeme odtah až 3 aut do celkové hmotnosti 11600 k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máme vozík na 2 au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40000" y="3429000"/>
            <a:ext cx="449568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de nás najd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e provozovna se nachází na spojnici ulic Místecká,kde se nachází váš autobazar AAA Auto Ostrava a ulice Cihelní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élka trasy je 3,5 km což představuje 3 minuty jízd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ap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nta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ihelní 107,Moravská Ostrava,naproti Auto sklo 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elefonní čísla : + 420 607 555 5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+ 420 602 323 7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ail: opravy.karoserii@seznam.c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45:13Z</dcterms:created>
  <dc:creator>uživatel</dc:creator>
  <dc:description/>
  <dc:language>en-US</dc:language>
  <cp:lastModifiedBy>uživatel</cp:lastModifiedBy>
  <dcterms:modified xsi:type="dcterms:W3CDTF">2007-03-07T11:14:48Z</dcterms:modified>
  <cp:revision>8</cp:revision>
  <dc:subject/>
  <dc:title>Prezentace firmy</dc:title>
</cp:coreProperties>
</file>